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3E0-EB04-4A39-9E5A-A5031BC1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67E-1B3A-42C9-B44F-DB3B287D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C05-5C51-442C-BE42-A38208C3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0EA-E9E1-4429-B46C-1F4095B8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C74-F855-449E-AB6D-345607F1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F88-0D32-47D2-872F-05F492DD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F44-71CA-4279-950A-89886447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3EA-09F6-4DFD-A48A-0E40BD1D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2FC-73E7-49C6-B8EF-17E5761F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525-E135-4126-BDDC-3DEC5AF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19E-2995-40E8-ACCD-CA5F5C2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73F-1192-482B-A18F-AF2F69ED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E854-4A9B-45D1-BD04-A3D7B92B86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t.b.v. interviewen innove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mpat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ntact opbouw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soorten vrag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755640" y="2533680"/>
            <a:ext cx="53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, gesloten en keuze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e en indirect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f lineair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lectiev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torische vraa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ypothetische vra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n-dir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goede interviewer past beide flexibel to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Arial"/>
              </a:rPr>
              <a:t>Succe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r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viewstij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informatie in één gesprek verzam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nticipatie tijdens gespr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aardering (medewerking) van geïnterview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euze geïnterviewde (algem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is je doelstell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is het meest geschikt of informatie te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itie in bedrijf/functie maatschappij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 in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ak maken (neutrale plaat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fdvragen op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oor ogen (fuik/omgekeerde fu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v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strak opvo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bouw van het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ings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er onde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en vr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v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el bew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ventueel confronteren (nooit suggestief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ndig laatste vraag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da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ebeurt er met het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orbereid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– luistervaardigheden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de geïnterviewde merken dat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istert, 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ïnteresseerd bent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m/haar waard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rviewtechni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uistervaar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e open ho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n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m-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h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afras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vat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26920" y="6237360"/>
            <a:ext cx="77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bereiding –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uistervaardighed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- contact opbouwen - soorten vragen - interviewstij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57:21Z</dcterms:created>
  <dc:creator>Robert Onderstijn</dc:creator>
  <dc:description/>
  <dc:language>en-US</dc:language>
  <cp:lastModifiedBy>Herma</cp:lastModifiedBy>
  <dcterms:modified xsi:type="dcterms:W3CDTF">2011-06-21T13:21:37Z</dcterms:modified>
  <cp:revision>5</cp:revision>
  <dc:subject/>
  <dc:title>Interviewtechniek HLB24</dc:title>
</cp:coreProperties>
</file>